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suction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8AC0-0B49-4DEC-A053-08B1331AE0B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 создал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. Энгель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1FB8-59E4-41DE-9D8D-3E7123D5865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ар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 деятельность человека направленная на достижение определенных целей, на сохранение, видоизменение, приспособление среды обитания для удовлетворения своих потребностей, на производство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2ECC-AE03-4DE2-A3DA-6E5BF6854E9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вида безработ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икционная – временная незанят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ая – появляется, когда спрос и предложение труда не совпад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клическая – создается общим низким спросом на рабочую силу во вех отраслях, сферах и регион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FBAB-10B6-44CB-A8B9-FD5E3879A2E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т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ровести мини исследование по проблеме отношения к тру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E9FF-5C40-4AFC-8B23-187FEFED185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4365-F7DD-49D6-90AD-7839A75B7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FFE8-197D-4AE4-8BD1-9ECF8CEF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0577-BEA4-40F8-B50B-0F91F014F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3EF4-9406-46E9-B376-298E6095F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7CD9-0550-4455-B7AF-A234283E3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9DF8-B6F8-40B8-8BC9-6DD4EE44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33D4-B602-49CD-8EEC-2AF20E14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4E5D-F787-4C77-82AC-83CC7B8F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30FE-0E79-4C3D-B155-D973C935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273D-ECB9-4E5E-8637-2BCE1C93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3629-9D9A-4E1B-BFA4-0175F5AF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D50A-2258-41F6-BD5B-452F6728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830E5-9C1C-4C0B-8ADE-3CBA2CFB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9C52-D47D-4214-ABA4-4BAACB78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1362-0C3E-49E8-86D9-343FC96D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677E-D8D7-4AA9-82F8-C8508529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5A31-8B6A-4B20-8B06-D63E8389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DEF3-9BBD-4347-8DE5-B1B36E9F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0B09-B31C-42A0-AF6A-284B426A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23F5-AC8A-413A-8771-F167A265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12C6-B042-49B9-A026-CA05D371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63A6-3AC2-4E75-ADCE-478BFA17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7810-1154-417A-ADDC-5E7774D7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1D36-3566-430B-B6B1-E4DB1DBD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FA6F-2CE0-462B-8C7C-FD79F925924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7440-F758-485F-877E-63076D104FD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203640" y="3212640"/>
            <a:ext cx="5580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уд создал чело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. Энгель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WordArt 4"/>
          <p:cNvSpPr txBox="1"/>
          <p:nvPr/>
        </p:nvSpPr>
        <p:spPr>
          <a:xfrm>
            <a:off x="1116000" y="189000"/>
            <a:ext cx="75596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Труд, занятость безработиц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pic>
        <p:nvPicPr>
          <p:cNvPr id="94" name="Picture 7" descr="50R4"/>
          <p:cNvPicPr/>
          <p:nvPr/>
        </p:nvPicPr>
        <p:blipFill>
          <a:blip r:embed="rId3"/>
          <a:stretch/>
        </p:blipFill>
        <p:spPr>
          <a:xfrm>
            <a:off x="4643280" y="4653000"/>
            <a:ext cx="1344600" cy="2205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56R5"/>
          <p:cNvPicPr/>
          <p:nvPr/>
        </p:nvPicPr>
        <p:blipFill>
          <a:blip r:embed="rId4"/>
          <a:stretch/>
        </p:blipFill>
        <p:spPr>
          <a:xfrm>
            <a:off x="0" y="1773360"/>
            <a:ext cx="2484360" cy="180000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297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Словарь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84360" y="1268280"/>
            <a:ext cx="643104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уд деятельность человека направленная на достижение определенных целей, на сохранение, видоизменение, приспособление среды обитания для удовлетворения своих потребностей, на производство товаров и услу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755640" y="2852640"/>
            <a:ext cx="2303640" cy="10080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Труд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356000" y="1197000"/>
            <a:ext cx="4248360" cy="12240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Производительны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(создает товары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4284720" y="4076640"/>
            <a:ext cx="4319640" cy="12970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Непроизводительны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(создает услуги)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7"/>
          <p:cNvSpPr/>
          <p:nvPr/>
        </p:nvSpPr>
        <p:spPr>
          <a:xfrm flipV="1">
            <a:off x="3059280" y="1773000"/>
            <a:ext cx="1225440" cy="1584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3059280" y="3357720"/>
            <a:ext cx="1152360" cy="1366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1835280" y="981000"/>
            <a:ext cx="5903640" cy="93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Денежная фор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042920" y="4005360"/>
            <a:ext cx="2305080" cy="93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Работ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651640" y="3933720"/>
            <a:ext cx="3095640" cy="9352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Деньг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3995640" y="4076640"/>
            <a:ext cx="1081080" cy="433440"/>
          </a:xfrm>
          <a:prstGeom prst="leftRightArrow">
            <a:avLst>
              <a:gd name="adj1" fmla="val 50000"/>
              <a:gd name="adj2" fmla="val 4965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AutoShape 8"/>
          <p:cNvSpPr/>
          <p:nvPr/>
        </p:nvSpPr>
        <p:spPr>
          <a:xfrm rot="5400000">
            <a:off x="3924000" y="2637000"/>
            <a:ext cx="1368360" cy="64764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1692360" y="620640"/>
            <a:ext cx="5545080" cy="863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Натуральная фор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395280" y="3284640"/>
            <a:ext cx="3240000" cy="863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Работ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5219640" y="3284640"/>
            <a:ext cx="3382920" cy="863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Деньг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50920" y="5229360"/>
            <a:ext cx="3168720" cy="9349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Услуг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5148360" y="5157720"/>
            <a:ext cx="3456000" cy="93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Деньг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AutoShape 10"/>
          <p:cNvSpPr/>
          <p:nvPr/>
        </p:nvSpPr>
        <p:spPr>
          <a:xfrm>
            <a:off x="3995640" y="3429000"/>
            <a:ext cx="863640" cy="504720"/>
          </a:xfrm>
          <a:prstGeom prst="leftRightArrow">
            <a:avLst>
              <a:gd name="adj1" fmla="val 50000"/>
              <a:gd name="adj2" fmla="val 34064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AutoShape 11"/>
          <p:cNvSpPr/>
          <p:nvPr/>
        </p:nvSpPr>
        <p:spPr>
          <a:xfrm>
            <a:off x="3851280" y="5516640"/>
            <a:ext cx="1008000" cy="433440"/>
          </a:xfrm>
          <a:prstGeom prst="leftRightArrow">
            <a:avLst>
              <a:gd name="adj1" fmla="val 50000"/>
              <a:gd name="adj2" fmla="val 462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AutoShape 12"/>
          <p:cNvSpPr/>
          <p:nvPr/>
        </p:nvSpPr>
        <p:spPr>
          <a:xfrm rot="5400000">
            <a:off x="3924000" y="2060640"/>
            <a:ext cx="1152360" cy="43164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1908000" y="476280"/>
            <a:ext cx="5329440" cy="1079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Заработная плат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24000" y="2565360"/>
            <a:ext cx="3240000" cy="10080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Оклад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(за часы работы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95280" y="4221000"/>
            <a:ext cx="3097080" cy="93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Повременная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4788000" y="2492280"/>
            <a:ext cx="4140000" cy="9352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плата за изготовленно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количество продук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5003640" y="4221000"/>
            <a:ext cx="3889440" cy="93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Сдельна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2050560" y="1557360"/>
            <a:ext cx="2016360" cy="79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10"/>
          <p:cNvSpPr/>
          <p:nvPr/>
        </p:nvSpPr>
        <p:spPr>
          <a:xfrm>
            <a:off x="4067280" y="1557360"/>
            <a:ext cx="237636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11"/>
          <p:cNvSpPr/>
          <p:nvPr/>
        </p:nvSpPr>
        <p:spPr>
          <a:xfrm>
            <a:off x="1692360" y="3573360"/>
            <a:ext cx="0" cy="57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6804000" y="3429000"/>
            <a:ext cx="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395280" y="620640"/>
            <a:ext cx="3240000" cy="792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ИЩЕТ РАБОТ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5076720" y="620640"/>
            <a:ext cx="3672000" cy="863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НЕ ИМЕЕТ РАБО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2268360" y="2421000"/>
            <a:ext cx="4608720" cy="863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БЕЗРАБОТНЫ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95280" y="4221000"/>
            <a:ext cx="3313080" cy="1944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ХОЧЕТ НАЙТ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РАБОТ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4788000" y="4221000"/>
            <a:ext cx="3887640" cy="1944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Зарегистрирова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в государственны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органах занятост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насел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9"/>
          <p:cNvSpPr/>
          <p:nvPr/>
        </p:nvSpPr>
        <p:spPr>
          <a:xfrm flipV="1">
            <a:off x="4572000" y="1557000"/>
            <a:ext cx="2376360" cy="863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10"/>
          <p:cNvSpPr/>
          <p:nvPr/>
        </p:nvSpPr>
        <p:spPr>
          <a:xfrm flipH="1" flipV="1">
            <a:off x="1763280" y="1484280"/>
            <a:ext cx="2808360" cy="936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11"/>
          <p:cNvSpPr/>
          <p:nvPr/>
        </p:nvSpPr>
        <p:spPr>
          <a:xfrm flipH="1">
            <a:off x="2050920" y="3284640"/>
            <a:ext cx="2376720" cy="93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4427640" y="3284640"/>
            <a:ext cx="1944720" cy="93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Три вида безработицы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рикционная – временная незанят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уктурная – появляется, когда спрос и предложение труда не совпадаю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иклическая – создается общим низким спросом на рабочую силу во вех отраслях, сферах и региона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Домашнее задание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читать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овести мини исследование по проблеме отношения к тру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  <p:sndAc>
      <p:stSnd>
        <p:snd r:embed="rId1" name="suction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9:49:37Z</dcterms:created>
  <dc:creator>1</dc:creator>
  <dc:description/>
  <dc:language>en-US</dc:language>
  <cp:lastModifiedBy>LEGION</cp:lastModifiedBy>
  <dcterms:modified xsi:type="dcterms:W3CDTF">2014-11-10T11:59:27Z</dcterms:modified>
  <cp:revision>5</cp:revision>
  <dc:subject/>
  <dc:title>Слайд 1</dc:title>
</cp:coreProperties>
</file>